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B92-C081-4AFC-90B9-38E5CB8A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089-15ED-41A9-AD83-579755E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2EB-BB93-4D2A-B2F5-7621AFF7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E38-4A0D-4DDF-9709-DD865334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F83-3364-454D-8878-8EB2517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718-CE84-4AB9-84B7-88FBDBFB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8C8-01F6-4500-877F-32A92E71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425-1FBF-47AF-B6F7-5345C4A2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768-FC79-43C7-96C7-D0BF45A6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4C5-9528-4411-9529-354D31B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A53-762E-4237-A626-EBBEFDE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620-EE1D-4451-9067-0DDD73F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60C15AA9-EDE5-4070-9B47-F51FBD74B104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econd Annual Review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Board Meee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“Away Party”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view, total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ib, Charles, Arpad, Diana, Ari, Paco, F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Review, total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mall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: H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-4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: Ar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: P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1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: Yv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away party is OK with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95144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256-ACB3-41B7-A578-EC641B1386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“Away Party”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143000"/>
          <a:ext cx="8229600" cy="487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 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1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p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p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R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vo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Scient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6BF-5745-4BB6-9532-9C3FB83AE6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posed Activity Report Schedu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will be collected similar to la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partners will summarize their work by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leaders will summarize the partne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Manager will accumulate/smooth all text into fin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8D1-BD32-48E5-B449-FB0576638C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posed Activity Report Schedu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</a:t>
            </a:r>
            <a:r>
              <a:rPr b="0" lang="pl-PL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Bitstream Vera Sans Mono"/>
              </a:rPr>
              <a:t>Su Mo Tu We Th Fr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nuary           1  2  3  4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6  7  8  9 10 11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3 14 15 16 17 18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0 21 22 23 24 25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ebruary   27 28 29 30 31  1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3  4  5  6  7  8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0 11 12 13 14 15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7 18 19 20 21 22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March      24 25 26 27 28 29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  3  4  5  6  7 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9 10 11 12 13 14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6 17 18 19 20 21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3 24 25 26 27 28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April      30 31  1  2  3  4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6  7  8  9 10 11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3 14 15 16 17 18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0 21 22 23 24 25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May        27 28 29 30  1  2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4  5  6  7  8 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1 12 13 14 15 16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8 19 20 21 22 23 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5 26 27 28 29 30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</a:t>
            </a:r>
            <a:r>
              <a:rPr b="0" lang="pl-PL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Bitstream Vera Sans Mono"/>
              </a:rPr>
              <a:t>Su Mo Tu We Th Fr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30 Jan: Board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4 Feb: Reminder w/r/t 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8 Feb: Call for update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6 Mar: All text d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24 Mar: Draft text available to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7 Apr: Last changes d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4 Apr: Document printed and sent to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4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12 May: Planned week for Second Annual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6400" y="2190600"/>
            <a:ext cx="304920" cy="304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85768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0048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96252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390920"/>
            <a:ext cx="304560" cy="304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486400"/>
            <a:ext cx="1828800" cy="304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648320"/>
            <a:ext cx="304560" cy="30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DD3-8304-4B4B-A155-47F4727E8435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Project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BE8-B430-4DCB-B096-52D275DEEE6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ject Extension (1 of 2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deliverables have been following “the letter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be useful to achieve “the spirit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and slow project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also provide partners with the ability to spread spending or provide additional time for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C29-5B20-466C-B23D-0EF2818620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ject Timeline (current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804960"/>
          <a:ext cx="7772400" cy="55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04960"/>
                    <a:ext cx="777240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480000" y="4070520"/>
            <a:ext cx="238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008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2 Progress Report submit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8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nual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2C5-DA4F-4830-A0A6-5808C38627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23040" y="1143000"/>
            <a:ext cx="342252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ject Extension (1 of 2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deliverables have been following “the letter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be useful to achieve “the spirit of the 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and slow project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time would also provide partners with the ability to spread spending or provide additional time for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2A4-D5A2-48C8-9DB7-1E79066295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onal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6 month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end date: 1 Ma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end date: 1 Sep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++ Report due: 15 Oct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++ In person review: ~Nov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into DOW An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OK from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plans or consider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ension, longe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dea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Extension (2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538-B38D-4B69-A3DB-2CF52E5413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Leaving the network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A66-C989-4E58-B426-9A7725DBED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iod 2 Repor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ly cal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Report, second annual report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jo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of achievements over the past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t-as-major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Extension (period 3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1A5-FCFE-4954-8C3E-83E61FAB8D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2CC-F23C-48E7-BFDA-5F040DE5CF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will be the same as the firs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ay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C offices in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the week of 12 May.  Prob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15 or Fri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A39-E91D-4E54-BDB3-DBDCA03EC2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Planning for next Annu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“There be dragon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003-04FC-4821-B3AE-875FF76B819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cond Annual Review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3760" y="1142640"/>
            <a:ext cx="3352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will be the same as the firs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ay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C offices in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the week of 12 May.  Prob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15 or Fri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DD6-48C8-43AF-A920-65BE37C506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ternal Review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 from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 Keller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in A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Cas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alter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ncan Law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hard Hofmann-Welle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the same reviewers as the first year is seen to be a benefit.  However, there is a chance that one of the original reviewers can not particip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anyone know either of the altern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FD1-F30A-4E2E-97A6-A40AF8639F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ternal Review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 from ye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 Keller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in A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Cas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alter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ncan Law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hard Hofmann-Welle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the same reviewers as the first year is seen to be a benefit.  However, there is a chance that one of the original reviewers can not particip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anyone know either of the altern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076400"/>
            <a:ext cx="47214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FCA-E60A-4232-9BF2-9D573220EC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“Away Party”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: H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-4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: Ar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: P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1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: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: 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ientist: 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mall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: H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-4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: Ar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: P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1: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: Yv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C08-DC62-47A6-81C3-09817774F19E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am Log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away party is OK with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3 re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the makeup be closer to period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322-71BA-4490-83A6-284B638970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28T20:49:49Z</dcterms:modified>
  <cp:revision>41</cp:revision>
  <dc:subject/>
  <dc:title>Slide 1</dc:title>
</cp:coreProperties>
</file>